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353-BA02-45CC-9FF7-83F7E50A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A17-0887-475E-97FA-2B4EA8A1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991-0FE9-490E-AAEE-1E15864B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1B1-3309-4BCC-955B-E3F23325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A683-3EE2-4B3E-91CE-2E307AD0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1197-7BE9-42F0-B26F-4DC98780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35AE-C1B6-4118-AABB-33E2CC70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BA4E-826E-41F1-92EE-10A4CD47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A035-20C7-4B59-8F32-1CC7E246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9012-C04D-4EF3-A8E8-97A9105D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55B3-0B0B-4436-9B81-8E77CB1C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658-8105-4137-818F-3EDBBA9B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7709-FFDA-44C1-85F6-23F2C684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2BF8-8169-4EC6-AFB4-C7525BD0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C892-2791-4AB0-B6AD-BA508884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5ACC-7BC6-4C6F-B502-C829076E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DD72-0658-4961-BB36-29E04B2B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B5415-52BC-4CB0-97FD-699FE815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F9B5-37D5-4DA3-989B-A0EB2F73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50DF-9AA0-47AD-8705-92201D61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A271-CF20-48FA-927C-92115FC0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9D50-026F-479B-89A6-DF7CA082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D17-41EB-4D09-8C1D-220EA814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6A2D-1585-4EA2-9F0A-10671225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9DC0-EC60-4592-B220-D8E90B66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C583-B39E-4312-A4ED-54753E8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03A2-3141-412D-8135-77B07DE5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DB4A4-4F05-4FE5-8DCB-93353954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305D-5BE5-4B03-B735-8941AB86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9E38-FAF4-4EE9-BB5B-75180732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3BD2-AE84-4FC5-9812-A0644BB9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F12A-8AC8-401C-B65E-026CDFFD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BEE4-19CE-4021-9EFD-FC3F6474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57B-282D-4A14-8D8A-8A7E07AC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41BD-5BE2-4FB9-B8E1-870132E8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9DEE-F534-4FE1-94EA-5DA01C28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8847F-A6A6-408C-97C0-20B18C6C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FFED-46DB-497B-9A91-329A23F3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EA351-BAEB-46BE-9A16-F1BD50E8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E24C-C9C8-45F2-BB16-5AE4A38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F9A01-A680-4D10-8743-320B9E71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E0A0-9C90-48E0-9117-9D9392A7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C5A4B-2A4C-4D6E-B3F9-8F9CFC2B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556-1B46-4E6B-9912-F70A30CB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BDB-66E4-4C50-AC3F-980E01AC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6D9-8AFA-4B68-9B9B-E577F10E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0BC-F73D-4225-B640-FC57D60E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076-8DDA-4180-B958-3E37E75F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6552-5892-4E82-B8C2-5FF39A9DAF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A03B-50EA-4042-AC0A-938693C833A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2DA9-0DF1-4745-88F0-6CCFBEAC5D9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83BF-5FB4-420A-A5C2-866A0F68B91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8229600" cy="1542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240" y="2209680"/>
            <a:ext cx="6705720" cy="24386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Program Evaluatio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Alternative Approaches and Practical Guidelin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ge 36 Question #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der a program in your organiz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it were to be evaluated, what might be the purpose of the evaluation at this point in tim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der the stage of the program and the information needs of different stakeholder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might be the role of the evaluators in conducting the evaluation? (i.e. facilitator, collaborator, management consultant, social change agent, program planning, etc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pp. 16 - 1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ge 35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kind of evaluation do you think is most useful – formative or summative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kind of evaluation would be most useful to you in your work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kind of evaluation would be most useful to your school or school boar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Evalu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determine or fix the value of: to examine and judg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uthors’ definition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identification, clarification, and application of defensible criteria to determine an evaluation object’s value (worth or merit) in relation to those criteria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p. 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characteristics of a “program”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et of planned systematic activ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ing managed 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achieve specified go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lated to specific nee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ticipants are specific individuals or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s in documentable outcomes and impa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estigable costs and benef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definition of a progra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uthors’ defini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ongoing, planned intervention that seeks to achieve some particular outcome(s), in response to some perceived educational, social, or commercial problem”.  (p. 8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does Evaluation differ from research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Constantia"/>
              </a:rPr>
              <a:t>Research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: primary purpose is to add to knowledge in a field, to contribute to the growth of theory (p. 9)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Constantia"/>
              </a:rPr>
              <a:t>Evaluation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: primary purpose is to provide useful information to those who hold a stake in whatever is being evaluated (stakeholders), often helping them to make a judgment or decision. (p. 9)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earch vs. Evalu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371600"/>
          <a:ext cx="8229600" cy="5038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d to knowledge in a field, develop laws and the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ke judgments, provide information for decision ma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o sets the agenda or focu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akeholders and evaluator join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eneralizability of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portant to add to the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ss important, focus is on particulars of program or policy and con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nded use of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t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 important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iteria to judge adequ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rnal and external val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curacy, utility, feasibility, propriety, evaluation accoun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eparation of those who work in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pth in subject matter, fewer methodological tools and approa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rdisciplinary, many methodological tools, interpersonal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akehol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o is considered upstream, who is midstream, and who is downstream in regard to Talmage’s (1982) model of evaluation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pstre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make decision on whether to continue, initiate, or change funding for pro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Midstre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program managers (principals), program staff (teachers, counselors, nurse, etc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ownstre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parents, students, community memb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y Te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tive vs. Summative (p. 2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they diff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ormativ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focus on program improv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ummativ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more concerned with providing information to make decisions about program adoption, continuation, or expan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ormative vs. Summative</a:t>
            </a:r>
            <a:br>
              <a:rPr sz="45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(Upstream, Midstream &amp; Downstream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were conducting a formative evaluation, which of the “streams” do you think would be your audience?  Construct support for your answ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were conducting a summative evaluation, which of the “streams” do you think would be your audience?  Construct support for your answ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4:37:06Z</dcterms:created>
  <dc:creator>rschultz</dc:creator>
  <dc:description/>
  <dc:language>en-US</dc:language>
  <cp:lastModifiedBy>rschultz</cp:lastModifiedBy>
  <dcterms:modified xsi:type="dcterms:W3CDTF">2011-02-04T00:09:34Z</dcterms:modified>
  <cp:revision>7</cp:revision>
  <dc:subject/>
  <dc:title>Chapter 1</dc:title>
</cp:coreProperties>
</file>